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17.jpeg" ContentType="image/jpeg"/>
  <Override PartName="/ppt/media/image9.jpeg" ContentType="image/jpeg"/>
  <Override PartName="/ppt/media/image23.wmf" ContentType="image/x-wmf"/>
  <Override PartName="/ppt/media/image30.wmf" ContentType="image/x-wmf"/>
  <Override PartName="/ppt/media/image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4.wmf" ContentType="image/x-wmf"/>
  <Override PartName="/ppt/media/image36.png" ContentType="image/png"/>
  <Override PartName="/ppt/media/image37.png" ContentType="image/png"/>
  <Override PartName="/ppt/media/image31.wmf" ContentType="image/x-wmf"/>
  <Override PartName="/ppt/media/image7.jpeg" ContentType="image/jpeg"/>
  <Override PartName="/ppt/media/image11.wmf" ContentType="image/x-wmf"/>
  <Override PartName="/ppt/media/image5.jpeg" ContentType="image/jpeg"/>
  <Override PartName="/ppt/media/image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35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8D5-F84C-42C0-9351-A3F96207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D04-F0C1-41CF-BCFC-E16C9E76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423-E650-4D44-B90B-A15BC28D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8FD-ACDA-44E3-B5BB-6B1D9103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9B6F-F055-4631-AD7C-74D17401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07BB-7B27-4D6E-9FF2-5AAFDE86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1F58-AEE9-4D33-BEF1-75845606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EBE6-06B5-42D8-9751-69DB30E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FDDE-9759-42B2-B62F-E8E4025D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678A-EAA3-48C9-B791-CE01AF99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13DE-BC81-482B-8B42-4CDDB28B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044-D7E4-4ADD-B252-EBC30691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501A-2F09-4583-B766-B6EFF3B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1011-B3AD-40B6-A398-F33E34A8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0AA1-11B7-48A8-B74A-9B6590CF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9F91-742E-4C3C-98BD-10EA4B50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28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136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9050-B2E1-4C98-AA49-46C94E63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5F4-6959-4CA4-BB2B-00288304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8B2-87F5-46D8-9825-67EC5D3C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99E-B49F-4362-8D41-765ABC61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0BF-ACF5-4536-88B7-6BBF76AD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D80-3F39-4A44-9069-27A53DDB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1F5-1E7D-4D5B-9004-A8DB7735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81A-19C2-49D3-BECA-BB56B9AE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61120" cy="5054400"/>
            <a:chOff x="3800520" y="1789200"/>
            <a:chExt cx="5361120" cy="5054400"/>
          </a:xfrm>
        </p:grpSpPr>
        <p:sp>
          <p:nvSpPr>
            <p:cNvPr id="1" name=""/>
            <p:cNvSpPr/>
            <p:nvPr/>
          </p:nvSpPr>
          <p:spPr>
            <a:xfrm>
              <a:off x="6719400" y="2166840"/>
              <a:ext cx="311400" cy="16056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8840" y="1881360"/>
              <a:ext cx="73080" cy="7272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1020000">
              <a:off x="8270640" y="2373120"/>
              <a:ext cx="7920" cy="328896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8560" y="5568840"/>
              <a:ext cx="102960" cy="1508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120000">
              <a:off x="8717760" y="2436480"/>
              <a:ext cx="7920" cy="317016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61120" y="2415960"/>
              <a:ext cx="7920" cy="139680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60000">
              <a:off x="5468040" y="2882880"/>
              <a:ext cx="7920" cy="322596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40000">
              <a:off x="4378680" y="2890800"/>
              <a:ext cx="7920" cy="336240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820760" y="2968200"/>
              <a:ext cx="7920" cy="302436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4800" y="4795920"/>
              <a:ext cx="988920" cy="2458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65040" y="5700600"/>
              <a:ext cx="1581840" cy="1987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03200" y="5786280"/>
              <a:ext cx="1543680" cy="3873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31640" y="5700600"/>
              <a:ext cx="1515240" cy="1414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7480" y="2446200"/>
              <a:ext cx="160560" cy="2444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7480" y="2682720"/>
              <a:ext cx="141480" cy="1508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7480" y="2806560"/>
              <a:ext cx="141480" cy="1699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0760" y="1913040"/>
              <a:ext cx="160560" cy="2458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00480" y="2141640"/>
              <a:ext cx="131760" cy="1508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90760" y="2274840"/>
              <a:ext cx="141480" cy="1699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23800" y="5595840"/>
              <a:ext cx="103320" cy="1508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90880" y="1789200"/>
              <a:ext cx="4136760" cy="7030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8760" y="5989680"/>
              <a:ext cx="131760" cy="1490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002280" y="6146640"/>
              <a:ext cx="141480" cy="1699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2680" cy="14148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2400" cy="6156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6080" cy="4554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4040" cy="3474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5040" y="6013440"/>
              <a:ext cx="141120" cy="1508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14440" y="5719680"/>
              <a:ext cx="112680" cy="1699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32000" y="2814480"/>
              <a:ext cx="273600" cy="402912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11560" y="2452680"/>
              <a:ext cx="119160" cy="37944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703200" y="2766960"/>
              <a:ext cx="324360" cy="8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40000" y="2427120"/>
              <a:ext cx="398880" cy="25005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22200" y="2255760"/>
              <a:ext cx="502560" cy="2174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7200" y="627840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3720" y="62784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08DBA1-B96A-481E-B637-F4C10900077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61120" cy="5054400"/>
            <a:chOff x="3800520" y="1789200"/>
            <a:chExt cx="5361120" cy="5054400"/>
          </a:xfrm>
        </p:grpSpPr>
        <p:sp>
          <p:nvSpPr>
            <p:cNvPr id="77" name=""/>
            <p:cNvSpPr/>
            <p:nvPr/>
          </p:nvSpPr>
          <p:spPr>
            <a:xfrm>
              <a:off x="6719400" y="2166840"/>
              <a:ext cx="311400" cy="16056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8840" y="1881360"/>
              <a:ext cx="73080" cy="7272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20000">
              <a:off x="8270640" y="2373120"/>
              <a:ext cx="7920" cy="328896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8560" y="5568840"/>
              <a:ext cx="102960" cy="1508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20000">
              <a:off x="8717760" y="2436480"/>
              <a:ext cx="7920" cy="317016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40000">
              <a:off x="8961120" y="2415960"/>
              <a:ext cx="7920" cy="139680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60000">
              <a:off x="5468040" y="2882880"/>
              <a:ext cx="7920" cy="322596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40000">
              <a:off x="4378680" y="2890800"/>
              <a:ext cx="7920" cy="336240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40000">
              <a:off x="4820760" y="2968200"/>
              <a:ext cx="7920" cy="302436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4800" y="4795920"/>
              <a:ext cx="988920" cy="2458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65040" y="5700600"/>
              <a:ext cx="1581840" cy="1987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03200" y="5786280"/>
              <a:ext cx="1543680" cy="3873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31640" y="5700600"/>
              <a:ext cx="1515240" cy="1414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7480" y="2446200"/>
              <a:ext cx="160560" cy="2444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7480" y="2682720"/>
              <a:ext cx="141480" cy="1508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7480" y="2806560"/>
              <a:ext cx="141480" cy="1699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90760" y="1913040"/>
              <a:ext cx="160560" cy="2458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00480" y="2141640"/>
              <a:ext cx="131760" cy="1508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0760" y="2274840"/>
              <a:ext cx="141480" cy="1699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3800" y="5595840"/>
              <a:ext cx="103320" cy="1508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90880" y="1789200"/>
              <a:ext cx="4136760" cy="7030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8760" y="5989680"/>
              <a:ext cx="131760" cy="1490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2280" y="6146640"/>
              <a:ext cx="141480" cy="1699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2680" cy="14148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2400" cy="6156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6080" cy="4554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4040" cy="3474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5040" y="6013440"/>
              <a:ext cx="141120" cy="1508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4440" y="5719680"/>
              <a:ext cx="112680" cy="1699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32000" y="2814480"/>
              <a:ext cx="273600" cy="402912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11560" y="2452680"/>
              <a:ext cx="119160" cy="379440"/>
            </a:xfrm>
            <a:prstGeom prst="rect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03200" y="2766960"/>
              <a:ext cx="324360" cy="8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0000" y="2427120"/>
              <a:ext cx="398880" cy="25005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200" y="2255760"/>
              <a:ext cx="502560" cy="2174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7200" y="627840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3720" y="62784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Segoe U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A2CBB-ABEA-458F-8FCE-431A698FC04A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5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Why an Energy Balance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at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=amount of heat supplies to steam in boiler from high temperature source (furna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ahoma"/>
              </a:rPr>
              <a:t>out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=amount of heat rejected from steam in condenser to a low-temperature s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ahoma"/>
              </a:rPr>
              <a:t>out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=amount of work delivered by steam as it expands in turb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= amount of work required to compress water to boiler press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ahoma"/>
              </a:rPr>
              <a:t>net,out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=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ahoma"/>
              </a:rPr>
              <a:t>out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(kJ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ahoma"/>
              </a:rPr>
              <a:t>net,out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ahoma"/>
              </a:rPr>
              <a:t>out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 (kJ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48320" y="2065320"/>
            <a:ext cx="40384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ermal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 efficiency,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=net work output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/total heat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= 1 – (heat ou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/total heat i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900680" y="1600200"/>
            <a:ext cx="353376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ermal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park-ignition engines turn 25% of chemical energy into mechanical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high as 40% for diesel engines and large gas-turbine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high as 60% for large combined gas-steam power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52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Kelvin-Planck State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t is impossible for any device that operates on a cycle to receive heat from a single reservoir and produce a net amount of 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 heat engine can have a thermal efficiency of 10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or a power plant to operate, the working fluid must exchange heat with the environment as well as the furn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rigerators and Heat Pu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at moves in nature from high temperatures to lower temperatures, no devices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he reverse process, heat from low temp to high temp, required special devices called refrigerators or heat pu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apor-compression refrigeration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r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den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pansion val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vapo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1974960"/>
            <a:ext cx="403848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97160" y="1600200"/>
            <a:ext cx="27496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efficient of Performance (C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P = Desired output/Required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/W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net,i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1/((Q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/Q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-1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at Pu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nsfers heat from low temperature area to higher temperatur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HP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red outpu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/Required inpu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= Q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/W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net,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HP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/(Q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–Q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 = 1/(1-(Q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/Q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253120" y="1600200"/>
            <a:ext cx="282708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econ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Law of Thermodynamics, can’t create or destroy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t why does heat only flow from hot areas to cooler are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4038480" cy="43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ergy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HP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CO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R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+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ergy efficiency rating (EER)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mount of Btu removed per kWh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umed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ER = 3.412 CO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1 kWh = 3412 B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Law: Clausius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t is impossible to construct a device that operates in a cycle and produces no effect other that the transfer of heat from a lower-temperature body to a higher-temperatur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erpetual-Motion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o take place, a process must satisfy both the first and second laws of Thermodynamic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device that violates the 1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law (creates energy) is a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erpetual-motion machine of the first kind (PMM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device that violates the 2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law is a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erpetual-motion machine of the second kind (PMM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P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157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PM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69840" y="1600200"/>
            <a:ext cx="72025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versibl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f a heat engine can not be 100% efficient, how efficient can it b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swer lies in discussion of reversibl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versible process is a process that can be reversed without leaving a trace on the surrou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versibl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2595600"/>
            <a:ext cx="8229600" cy="25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versibl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versible processes are idealized processes, do not occur in 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versible processes are the “best” process that can be 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rreversible processes are processes that are not reversible due to irrever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rrever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rreversibilities are factor that cause processes to be irrever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nrestrained expansion of 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at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versibl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nally reversible: no irreversibilities within the boundaries of the system during the process.  (quasi-equilibrium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ternally reversible: no irreversibilities occur outside the system boundaries during the process.  (heat transfer at same temperatu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otally reversible: no irreversibilities within system or surrou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econ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2670120"/>
            <a:ext cx="4038480" cy="238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48320" y="2241720"/>
            <a:ext cx="4038480" cy="32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versibl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73240" y="1600200"/>
            <a:ext cx="6796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rno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deal cycle, rever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ur processes make up a cyc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rno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versible isothermal expansion,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co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versible adiabatic expansion, Q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versible isothermal compression,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co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versible adiabatic compression, Q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883120" y="1600200"/>
            <a:ext cx="156852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rno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943280" y="1600200"/>
            <a:ext cx="52560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rno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nce a reversible cycle, reverse is  a refrigeration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48320" y="2124000"/>
            <a:ext cx="403848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rnot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he efficiency of an irreversible heat engine is always less that the efficiency of a reversible heat engine operating between the same two reservoi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he efficiency of all reversible heat engines operating between the same two reservoirs are the 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rnot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349360" y="1600200"/>
            <a:ext cx="44434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not Heat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52480" y="2827440"/>
            <a:ext cx="2362320" cy="1054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2438640" cy="1033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923000" y="1447920"/>
            <a:ext cx="33526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514600" cy="3438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52280" y="2293920"/>
            <a:ext cx="6400800" cy="32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5800" y="1930320"/>
            <a:ext cx="800100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econ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cond law tells whether a process can tak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o do this need another property called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entro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ess can not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ake place unless it satisfies both first and second laws of thermodynam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5257800"/>
            <a:ext cx="678204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ality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ergy has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re high-temperature energy can be converted to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igher the temperature, higher the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9229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not Refrigerator and Heat Pu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62120" y="2894040"/>
            <a:ext cx="3733560" cy="2720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3740400" cy="6490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703760" y="2154240"/>
            <a:ext cx="392580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971720" cy="3352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286000" y="1216080"/>
            <a:ext cx="635652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639880" cy="5029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971800" y="152280"/>
            <a:ext cx="6014880" cy="16448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971800" y="1727280"/>
            <a:ext cx="593892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ermal Energy Reserv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arge body with extremely large thermal capacity which ca absorb or supply a finite amounts of heat with out changing temp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2616120"/>
            <a:ext cx="4038480" cy="24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ermal Energy Reserv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reservoir th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upplies heat is a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bsorbs heat is a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56040" y="1600200"/>
            <a:ext cx="362124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at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ork can be easily converted completely to heat and other form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verting other forms of energy to work is not that ea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2471760"/>
            <a:ext cx="403848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at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Work can be converted to work directly and comple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verting heat to work requires the use of a device called a heat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at engines come in many forms, pure heat engines (steam power plants) and semi heat engines (gas turbin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l have a working flu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at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ceive heat from high temperature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vert part of the heat to work (usually a rotating sha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ject remaining waste heat to a low-temperature s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perate on a cy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560" y="1600200"/>
            <a:ext cx="266220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7:24:14Z</dcterms:created>
  <dc:creator>wwheeler</dc:creator>
  <dc:description/>
  <dc:language>en-US</dc:language>
  <cp:lastModifiedBy>ccwtest</cp:lastModifiedBy>
  <dcterms:modified xsi:type="dcterms:W3CDTF">2007-04-26T21:41:27Z</dcterms:modified>
  <cp:revision>7</cp:revision>
  <dc:subject/>
  <dc:title>Second Law of Thermodynamics</dc:title>
</cp:coreProperties>
</file>