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A2B7-0A6E-474C-B2E4-46CCC7353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334E-EF56-4EDE-B902-06795BED9BF7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E41A-E136-4E65-BC2F-A92BF2308E4C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88E4-9306-4782-8404-333B6426998E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5511-6E86-4929-9656-C6B3DA138CCD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346D-09DA-40A3-A000-52093B4F45DD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AFD1-B265-4E6B-8012-E62CCF748CFD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C065-FCB7-41A8-AE39-7AAC9D577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A423-0CCB-4329-9F77-A036400D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1861-A194-4F0E-8A61-A4AD8E2D8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64C0-1556-4817-AC36-8E6C468B5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D0A2-C572-4BBE-988F-F693F6A3B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F47C-CC55-48B0-91C3-A6849366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E2A2-221B-4667-BB68-EEB54CF1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04D9-FB9A-4B3E-8D56-E28FAAFB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39CC-8959-4CB0-863C-01F7E580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68EA-DDA5-4977-A075-BB9D0789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7997-70EE-42A4-8BA1-9B692B07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1D36-C3ED-40A4-A6F6-F77C2097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1AAC-7E8F-480B-AAA1-8DB3CBCA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4A34-687A-4903-B003-764ECB88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ED0E-3657-4AB0-935B-AF20F5D8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F63A-5F7F-4AC8-968B-CFA58B5D6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55DA-BDFE-4EB9-8DFC-4014C2BD4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4E88-CB07-4CFE-AD61-722F065C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6417-BFA3-4051-867F-3E570ADB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0461-E014-4BAF-9651-D2DDA462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1C69-4DE7-4FD5-A25C-200F4521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35C6-CB02-4578-8426-6465DCE2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31FC-151B-4DE5-BCCF-D536EBD4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1B75-323B-4C3F-9161-94B02058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8088-95CE-46DC-978C-FE94A8C89E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B18F-5083-4889-BC1F-C1CF0ED2A5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bibliotecadigital.ufmg.br/dspace/bitstream/1843/BUOS-8DNH3M/1/lucas_vieira_penna.pdf" TargetMode="External"/><Relationship Id="rId2" Type="http://schemas.openxmlformats.org/officeDocument/2006/relationships/hyperlink" Target="http://pt.wikipedia.org/wiki/Lingotamento_cont&#237;nuo" TargetMode="External"/><Relationship Id="rId3" Type="http://schemas.openxmlformats.org/officeDocument/2006/relationships/hyperlink" Target="http://pt.wikipedia.org/wiki/Lingotamento_cont&#237;nuo" TargetMode="External"/><Relationship Id="rId4" Type="http://schemas.openxmlformats.org/officeDocument/2006/relationships/hyperlink" Target="http://www.demet.ufmg.br/docentes/parreiras/PDF/finaldecurso(Leo).pdf" TargetMode="External"/><Relationship Id="rId5" Type="http://schemas.openxmlformats.org/officeDocument/2006/relationships/hyperlink" Target="http://www.demet.ufmg.br/docentes/parreiras/PDF/finaldecurso(Leo).pdf" TargetMode="External"/><Relationship Id="rId6" Type="http://schemas.openxmlformats.org/officeDocument/2006/relationships/hyperlink" Target="http://www.industry.siemens.com.br/industrysolutions/metals-mining-br/pt/metais/lingotamento-continuo/Pages/lingotamento-continuo.aspx" TargetMode="External"/><Relationship Id="rId7" Type="http://schemas.openxmlformats.org/officeDocument/2006/relationships/hyperlink" Target="http://www.industry.siemens.com.br/industrysolutions/metals-mining-br/pt/metais/lingotamento-continuo/Pages/lingotamento-continuo.aspx" TargetMode="External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299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c0c0"/>
                </a:solidFill>
                <a:latin typeface="Arial"/>
              </a:rPr>
              <a:t>Lingotamento Contínuo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317080" y="404640"/>
            <a:ext cx="590400" cy="684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799920" cy="324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63640" y="332280"/>
            <a:ext cx="57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UNIVERSIDADE DE SÃO PAUL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SCOLA DE ENGENHARIA DE LORE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aixaDeTexto 3"/>
          <p:cNvSpPr/>
          <p:nvPr/>
        </p:nvSpPr>
        <p:spPr>
          <a:xfrm>
            <a:off x="769320" y="549360"/>
            <a:ext cx="7605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ribuidor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ter a velocidade constan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ar a velocidad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tribuir nos veios; manter a qualidade do aç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rcRect l="34966" t="36959" r="36215" b="22723"/>
          <a:stretch/>
        </p:blipFill>
        <p:spPr>
          <a:xfrm>
            <a:off x="1619280" y="1700280"/>
            <a:ext cx="590544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rcRect l="38273" t="50401" r="33853" b="20203"/>
          <a:stretch/>
        </p:blipFill>
        <p:spPr>
          <a:xfrm>
            <a:off x="992160" y="1989000"/>
            <a:ext cx="7159680" cy="4248360"/>
          </a:xfrm>
          <a:prstGeom prst="rect">
            <a:avLst/>
          </a:prstGeom>
          <a:ln w="0">
            <a:noFill/>
          </a:ln>
        </p:spPr>
      </p:pic>
      <p:sp>
        <p:nvSpPr>
          <p:cNvPr id="130" name="CaixaDeTexto 5"/>
          <p:cNvSpPr/>
          <p:nvPr/>
        </p:nvSpPr>
        <p:spPr>
          <a:xfrm>
            <a:off x="2826360" y="682560"/>
            <a:ext cx="34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Manter a velocidade constan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"/>
          <p:cNvPicPr/>
          <p:nvPr/>
        </p:nvPicPr>
        <p:blipFill>
          <a:blip r:embed="rId1"/>
          <a:srcRect l="38273" t="57120" r="41882" b="20203"/>
          <a:stretch/>
        </p:blipFill>
        <p:spPr>
          <a:xfrm>
            <a:off x="1224000" y="2060640"/>
            <a:ext cx="6696000" cy="4305240"/>
          </a:xfrm>
          <a:prstGeom prst="rect">
            <a:avLst/>
          </a:prstGeom>
          <a:ln w="0">
            <a:noFill/>
          </a:ln>
        </p:spPr>
      </p:pic>
      <p:sp>
        <p:nvSpPr>
          <p:cNvPr id="132" name="CaixaDeTexto 4"/>
          <p:cNvSpPr/>
          <p:nvPr/>
        </p:nvSpPr>
        <p:spPr>
          <a:xfrm>
            <a:off x="2344320" y="620640"/>
            <a:ext cx="44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ar a velocidade: elevada precis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CaixaDeTexto 3"/>
          <p:cNvSpPr/>
          <p:nvPr/>
        </p:nvSpPr>
        <p:spPr>
          <a:xfrm>
            <a:off x="2342880" y="692280"/>
            <a:ext cx="44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tribuição nos veios de forma unifor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rcRect l="35438" t="29400" r="48499" b="39520"/>
          <a:stretch/>
        </p:blipFill>
        <p:spPr>
          <a:xfrm>
            <a:off x="1692360" y="1557360"/>
            <a:ext cx="57592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CaixaDeTexto 3"/>
          <p:cNvSpPr/>
          <p:nvPr/>
        </p:nvSpPr>
        <p:spPr>
          <a:xfrm>
            <a:off x="3060000" y="5396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ter a qualidade do aç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CaixaDeTexto 4"/>
          <p:cNvSpPr/>
          <p:nvPr/>
        </p:nvSpPr>
        <p:spPr>
          <a:xfrm>
            <a:off x="256320" y="1341360"/>
            <a:ext cx="44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eriais incorporados no distribuidor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lusões exógen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rcRect l="39690" t="31084" r="40467" b="48763"/>
          <a:stretch/>
        </p:blipFill>
        <p:spPr>
          <a:xfrm>
            <a:off x="324000" y="2565360"/>
            <a:ext cx="4032000" cy="3240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rcRect l="36855" t="50922" r="36688" b="22202"/>
          <a:stretch/>
        </p:blipFill>
        <p:spPr>
          <a:xfrm>
            <a:off x="4788000" y="2781360"/>
            <a:ext cx="4254480" cy="3058920"/>
          </a:xfrm>
          <a:prstGeom prst="rect">
            <a:avLst/>
          </a:prstGeom>
          <a:ln w="0">
            <a:noFill/>
          </a:ln>
        </p:spPr>
      </p:pic>
      <p:sp>
        <p:nvSpPr>
          <p:cNvPr id="139" name="CaixaDeTexto 8"/>
          <p:cNvSpPr/>
          <p:nvPr/>
        </p:nvSpPr>
        <p:spPr>
          <a:xfrm>
            <a:off x="5367240" y="1341360"/>
            <a:ext cx="36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estimento com refratários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ntes; aquecimento prév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CaixaDeTexto 3"/>
          <p:cNvSpPr/>
          <p:nvPr/>
        </p:nvSpPr>
        <p:spPr>
          <a:xfrm>
            <a:off x="2446200" y="549360"/>
            <a:ext cx="4251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ituição do distribuid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rcRect l="35911" t="31084" r="36688" b="47923"/>
          <a:stretch/>
        </p:blipFill>
        <p:spPr>
          <a:xfrm>
            <a:off x="3492360" y="2276640"/>
            <a:ext cx="5430960" cy="3193920"/>
          </a:xfrm>
          <a:prstGeom prst="rect">
            <a:avLst/>
          </a:prstGeom>
          <a:ln w="0">
            <a:noFill/>
          </a:ln>
        </p:spPr>
      </p:pic>
      <p:sp>
        <p:nvSpPr>
          <p:cNvPr id="142" name="CaixaDeTexto 7"/>
          <p:cNvSpPr/>
          <p:nvPr/>
        </p:nvSpPr>
        <p:spPr>
          <a:xfrm>
            <a:off x="266760" y="212400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Refratários e isolan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CaixaDeTexto 8"/>
          <p:cNvSpPr/>
          <p:nvPr/>
        </p:nvSpPr>
        <p:spPr>
          <a:xfrm>
            <a:off x="261360" y="2708280"/>
            <a:ext cx="26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álvula: Alta alumina o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irconi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CaixaDeTexto 9"/>
          <p:cNvSpPr/>
          <p:nvPr/>
        </p:nvSpPr>
        <p:spPr>
          <a:xfrm>
            <a:off x="198360" y="3645000"/>
            <a:ext cx="300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estimento de serviço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gnesianos, aluminosos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lomí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CaixaDeTexto 10"/>
          <p:cNvSpPr/>
          <p:nvPr/>
        </p:nvSpPr>
        <p:spPr>
          <a:xfrm>
            <a:off x="195120" y="5084640"/>
            <a:ext cx="291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estimento permanen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ralmente aluminos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CaixaDeTexto 11"/>
          <p:cNvSpPr/>
          <p:nvPr/>
        </p:nvSpPr>
        <p:spPr>
          <a:xfrm>
            <a:off x="222480" y="6165720"/>
            <a:ext cx="589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nte: Massa ou tijolo de baixa condutividade térmi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CaixaDeTexto 4"/>
          <p:cNvSpPr/>
          <p:nvPr/>
        </p:nvSpPr>
        <p:spPr>
          <a:xfrm>
            <a:off x="3994920" y="620640"/>
            <a:ext cx="11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rcRect l="42997" t="42762" r="43774" b="33721"/>
          <a:stretch/>
        </p:blipFill>
        <p:spPr>
          <a:xfrm>
            <a:off x="539640" y="2060640"/>
            <a:ext cx="3384720" cy="3384360"/>
          </a:xfrm>
          <a:prstGeom prst="rect">
            <a:avLst/>
          </a:prstGeom>
          <a:ln w="0">
            <a:noFill/>
          </a:ln>
        </p:spPr>
      </p:pic>
      <p:sp>
        <p:nvSpPr>
          <p:cNvPr id="149" name="CaixaDeTexto 6"/>
          <p:cNvSpPr/>
          <p:nvPr/>
        </p:nvSpPr>
        <p:spPr>
          <a:xfrm>
            <a:off x="345960" y="1547640"/>
            <a:ext cx="39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Cobre, variando de 0,5 a 1,0 metr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2"/>
          <a:srcRect l="37800" t="36640" r="34798" b="20002"/>
          <a:stretch/>
        </p:blipFill>
        <p:spPr>
          <a:xfrm>
            <a:off x="5121360" y="2060640"/>
            <a:ext cx="3771720" cy="3357360"/>
          </a:xfrm>
          <a:prstGeom prst="rect">
            <a:avLst/>
          </a:prstGeom>
          <a:ln w="0">
            <a:noFill/>
          </a:ln>
        </p:spPr>
      </p:pic>
      <p:sp>
        <p:nvSpPr>
          <p:cNvPr id="151" name="CaixaDeTexto 8"/>
          <p:cNvSpPr/>
          <p:nvPr/>
        </p:nvSpPr>
        <p:spPr>
          <a:xfrm>
            <a:off x="5495760" y="154764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Montagem na caix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CaixaDeTexto 9"/>
          <p:cNvSpPr/>
          <p:nvPr/>
        </p:nvSpPr>
        <p:spPr>
          <a:xfrm>
            <a:off x="2494080" y="5867280"/>
            <a:ext cx="41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bre (398 W/mK) x Prata (428 W/m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CaixaDeTexto 3"/>
          <p:cNvSpPr/>
          <p:nvPr/>
        </p:nvSpPr>
        <p:spPr>
          <a:xfrm>
            <a:off x="1371240" y="549360"/>
            <a:ext cx="67093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friamento Secundári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Água lançada diretamente sobre a superfície, através de b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jet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ção de promover a solidificação total do aç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istir as tensões mecânicas provocadas pelo endireita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los endireitador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gt;1100ºC: trincas por não resistir a deform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700ºC: Operação inviabilizada pelos altos esforç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eratura ideal: 1000ºC – 1100º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CaixaDeTexto 3"/>
          <p:cNvSpPr/>
          <p:nvPr/>
        </p:nvSpPr>
        <p:spPr>
          <a:xfrm>
            <a:off x="3497760" y="620640"/>
            <a:ext cx="23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ona de Cor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CaixaDeTexto 5"/>
          <p:cNvSpPr/>
          <p:nvPr/>
        </p:nvSpPr>
        <p:spPr>
          <a:xfrm>
            <a:off x="1049400" y="1700280"/>
            <a:ext cx="114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sour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rcRect l="36383" t="31920" r="51808" b="52963"/>
          <a:stretch/>
        </p:blipFill>
        <p:spPr>
          <a:xfrm>
            <a:off x="539640" y="2276640"/>
            <a:ext cx="2519640" cy="1814400"/>
          </a:xfrm>
          <a:prstGeom prst="rect">
            <a:avLst/>
          </a:prstGeom>
          <a:ln w="0">
            <a:noFill/>
          </a:ln>
        </p:spPr>
      </p:pic>
      <p:sp>
        <p:nvSpPr>
          <p:cNvPr id="157" name="CaixaDeTexto 7"/>
          <p:cNvSpPr/>
          <p:nvPr/>
        </p:nvSpPr>
        <p:spPr>
          <a:xfrm>
            <a:off x="5929920" y="170028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Oxicor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rcRect l="49614" t="47562" r="39048" b="37320"/>
          <a:stretch/>
        </p:blipFill>
        <p:spPr>
          <a:xfrm>
            <a:off x="5651640" y="2276640"/>
            <a:ext cx="2449440" cy="1800000"/>
          </a:xfrm>
          <a:prstGeom prst="rect">
            <a:avLst/>
          </a:prstGeom>
          <a:ln w="0">
            <a:noFill/>
          </a:ln>
        </p:spPr>
      </p:pic>
      <p:sp>
        <p:nvSpPr>
          <p:cNvPr id="159" name="CaixaDeTexto 9"/>
          <p:cNvSpPr/>
          <p:nvPr/>
        </p:nvSpPr>
        <p:spPr>
          <a:xfrm>
            <a:off x="5595840" y="443700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lhor acabamen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Óxidos depositados 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erfície do tarug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CaixaDeTexto 10"/>
          <p:cNvSpPr/>
          <p:nvPr/>
        </p:nvSpPr>
        <p:spPr>
          <a:xfrm>
            <a:off x="559440" y="4508640"/>
            <a:ext cx="32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utenção mais demorada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 maiores cus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CaixaDeTexto 3"/>
          <p:cNvSpPr/>
          <p:nvPr/>
        </p:nvSpPr>
        <p:spPr>
          <a:xfrm>
            <a:off x="2911320" y="476280"/>
            <a:ext cx="33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ito de resfriam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rcRect l="35911" t="36119" r="38577" b="44224"/>
          <a:stretch/>
        </p:blipFill>
        <p:spPr>
          <a:xfrm>
            <a:off x="2124000" y="1557360"/>
            <a:ext cx="4896000" cy="2122560"/>
          </a:xfrm>
          <a:prstGeom prst="rect">
            <a:avLst/>
          </a:prstGeom>
          <a:ln w="0">
            <a:noFill/>
          </a:ln>
        </p:spPr>
      </p:pic>
      <p:sp>
        <p:nvSpPr>
          <p:cNvPr id="163" name="CaixaDeTexto 5"/>
          <p:cNvSpPr/>
          <p:nvPr/>
        </p:nvSpPr>
        <p:spPr>
          <a:xfrm>
            <a:off x="1115640" y="4643280"/>
            <a:ext cx="691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Proporcionar resfriamento homogêneo, evitando empenamen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c0c0"/>
                </a:solidFill>
                <a:latin typeface="Arial"/>
              </a:rPr>
              <a:t>História do Lingotamento Contínuo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O vazamento de metais líquidos para dentro de componentes e produtos perfilados é uma tecnologia já utilizada pelo povo chinês na antiguidade, quando criavam artefatos fundidos a partir d bronze e de ferro líqui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O conceito de lingotamento contínuo surgiu em 1840, com o americano George Sellers, na tentativa de lingotar tubos de chumb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m 1846, Henry Bessemer idealizou uma máquina de lingotamento contínuo para aços, na qual consistia em lingotar as placas de aço entre dois cilindros refrigerados a águ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Lingotamento continuo.wmv" descr=""/>
          <p:cNvPicPr/>
          <p:nvPr/>
        </p:nvPicPr>
        <p:blipFill>
          <a:blip r:embed="rId1"/>
          <a:stretch/>
        </p:blipFill>
        <p:spPr>
          <a:xfrm>
            <a:off x="171360" y="836640"/>
            <a:ext cx="88012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Molde ou Resfriamento Primário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meira etapa de solidificaçã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tiva criar uma casca que suporte a pressão metalostática e as tensões no processamento sem aparecimento de trincas ou fratu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espessura mínima da casca deve ser de 15 a 20% da área do tarug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Molde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s moldes LC possuem um sistema de oscilações vertic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 oscilações reduzem o atrito, entre a casca e as paredes do molde, impedindo aderência e aliviando as tensões de extraçã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Molde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lubrificação das paredes é feita depositando uma camada de pó refrátario sobre a superfície do met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pó fluxante também retém as inclusões e forma uma capa térmica na superfície de met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Molde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nível de metal deve ser controlado para evitar o transbordo ou o esvaziamento em demas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comprimento do molde é importa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Marcas de Oscilações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rutura descontínua, ocorre devido ao transbordamento de aço líquido sobre a casca já forma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se transbordamento acontece no ciclo de subida do molde e apresenta três situaçõs possíve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Marcas de Oscilações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asca dobrada favorece a nucleação de sólido e deste modo as dobras nuclearão fortes marcas supericia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asca dobrada é refundida devido as correntes convectivas e surge uma nova cas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asca formada retorna a curvatura fixando-se novamente na superfície do mol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Marcas de Oscilações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álises mais específicas da profundidade das marcas superficiais apontam para uma forte influência da frequência e amplitude das oscilações e o consumo de lubrifica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Marcas de Oscilações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geral, observado para qualquer viscosidade, a profundidade aumenta com o aumento do consumo de lubrifica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 pós com baixa viscosidade, o aumento da frequência e redução da amplitudo implica na redução da profundida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Transferência de Calor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É importante que o material do molde apresente boa condutividade térmica. Geralmente Cu e suas lig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, Cr e Zr são adicionados para conferir melhores propriedades mecânicas em altas temperatu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estimentos de Ni e Cr reduzem o atrito e o desgas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m 1887, o alemão R. M. Daelen elaborou uma proposta para uma planta de lingotamento contínuo, que corresponde ao desenho similar às máquinas atuais. Porém, ainda apresentava algumas dificuldades e barreiras que impedia a produção em escala industr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m 1933 Siegfried Junghans, patenteou um sistema de oscilação do molde, o qual tornou viável a produção de aço em escala industrial e a implementação efetiva do lingotamento contínuo na siderurg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tualmente, 85% da produção mundial de aço é processado através do lingotamento contínuo e o restante através do lingotamento convenciaon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Transferência de Calor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amada de metal sólido forma uma barreira a remoção do calor latente de solidificação, tendo influência crescente no process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metal líquido, a convecção térmica elimina os gradientes térm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ideal é que  as paredes do molde não apresentem uma resistência térmica significativ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Transferência de Calor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s movimentos de convecção, gerados no vazamento, asseguram a homogeneização da temperatura e da TC do L/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formação de uma fenda entre as paredes do molde e a superfície pré solidificada afeta a retirada de cal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se GAP é formado pelo efeito de contração da mudança de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Transferência Newtoniana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É caracterizada por três resistências térmic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ace metal/mold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→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stência térmica da pared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→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ace molde/fluído de refrigeraçã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Transferência Newtoniana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le ressaltar que na região de separação física molde/metal existe uma deficiência na retirada de cal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eficiência da extração de calor depende diretamente da velocidade da água de refigeração, espessura das paredes do molde e do percentual de carbono do aç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c0c0"/>
                </a:solidFill>
                <a:latin typeface="Arial"/>
              </a:rPr>
              <a:t>Resfriamento Secundário ou Região de chuveiros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tarugo pré-solidificado no molde é suportado por rolos e o resfriamento é realizado pelo jato de água dos chuvei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tiva a solidificação final do poço líquido no interior do tarugo, antes da região de cor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c0c0"/>
                </a:solidFill>
                <a:latin typeface="Arial"/>
              </a:rPr>
              <a:t>Resfriamento Secundário ou Região de chuveiros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axa de retirada de calo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Velocidade do resfriamen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→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esfriamento Rápido X Resfriamento L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 temperatura da superfície e a vazão de água dos chuveiros diminuem gradativamente do primeiro ao último conjun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c0c0"/>
                </a:solidFill>
                <a:latin typeface="Arial"/>
              </a:rPr>
              <a:t>Resfriamento Secundário ou Região de chuveiros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ço-carbo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Devido ao polimorfismo do Ferro, deve-se manter uma temperatura mínima para a solidificação do poço líquido, porém com um limite que impeça a transformação estrutural Fe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γ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– Fe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c0c0"/>
                </a:solidFill>
                <a:latin typeface="Arial"/>
              </a:rPr>
              <a:t>Resfriamento Secundário ou Região de chuveiros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1042920" y="2565360"/>
            <a:ext cx="678024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c0c0"/>
                </a:solidFill>
                <a:latin typeface="Arial"/>
              </a:rPr>
              <a:t>Resfriamento Secundário ou Região de chuveiros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s principais características que a etapa de resfriamento secundário deve apresentar sã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→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apacidade de extração de calor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→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ntrole da temperatura da superfíci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→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juste dos controladores de vazão para as diferentes zonas de chuveiro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→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plicação uniforme da água de refrigeraçã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c0c0"/>
                </a:solidFill>
                <a:latin typeface="Arial"/>
              </a:rPr>
              <a:t>Resfriamento Secundário ou Região de chuveiros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arâmetros que influenciam a profundidade do poço de metal líquid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→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Velocidade de lingotamento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→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mprimento da região de chuveiro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→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Quantidade de zona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→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Número de chuveiros por zon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Definição do Processo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Lingotamento Contínuo é o processo pelo qual o metal líquido é solidificado em um produto semi-acabado no formato de tarugo, bloco,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beam blank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ou pla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O processo de lingotamento contínuo pode ser definido pelas seguintes característic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Garamond"/>
              </a:rPr>
              <a:t>→ </a:t>
            </a:r>
            <a:r>
              <a:rPr b="0" lang="pt-BR" sz="1800" spc="-1" strike="noStrike">
                <a:solidFill>
                  <a:srgbClr val="ffffff"/>
                </a:solidFill>
                <a:latin typeface="Garamond"/>
              </a:rPr>
              <a:t>O lingotamento é executado para o interior de um molde de extremidades aberta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Garamond"/>
              </a:rPr>
              <a:t>→ </a:t>
            </a:r>
            <a:r>
              <a:rPr b="0" lang="pt-BR" sz="1800" spc="-1" strike="noStrike">
                <a:solidFill>
                  <a:srgbClr val="ffffff"/>
                </a:solidFill>
                <a:latin typeface="Garamond"/>
              </a:rPr>
              <a:t>Peças lingotadas são substancialmente mais compridas que o mold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Garamond"/>
              </a:rPr>
              <a:t>→ </a:t>
            </a:r>
            <a:r>
              <a:rPr b="0" lang="pt-BR" sz="1800" spc="-1" strike="noStrike">
                <a:solidFill>
                  <a:srgbClr val="ffffff"/>
                </a:solidFill>
                <a:latin typeface="Garamond"/>
              </a:rPr>
              <a:t>Os tamanhos da bitola permitem uma redução mínima em processo subseqüentes (laminação, forjamento ou extrusã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c0c0"/>
                </a:solidFill>
                <a:latin typeface="Arial"/>
              </a:rPr>
              <a:t>Resfriamento Secundário ou Região de chuveiros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arâmetros que influenciam a temperatura de superfície do tarug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→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Velocidade de lingotament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→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Quantidade e tipo de rolo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→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Vazão de água nos chuveiro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→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mprimento da zona de chuveiro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huveiros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oca térmica entre o tarugo e as gotas, bem como com a nuvem de vapor formada próxima ao tarug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 entrada e saída de cada zona de chuveiros deve-se conhecer a temperatura superficial, objetivando o controle de vazão de água, reduzindo ou aumentando a taxa de retirada de calor em cada zo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huveiros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arâmetros que influenciam a troca de calo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→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Vazão da águ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→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umento na distância entre bicos e tarug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→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Diâmetro do bic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c0c0"/>
                </a:solidFill>
                <a:latin typeface="Arial"/>
              </a:rPr>
              <a:t>Oscilação do molde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68000" y="141300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itar aderência entre camada solidificada e mold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rmalmente  é ciclo senoida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sencial para a eliminação de perfuraçõ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gast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1332000" y="282600"/>
            <a:ext cx="6480000" cy="65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Agitador Eletromagnético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4859280" y="1844640"/>
            <a:ext cx="4033800" cy="37051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6"/>
          <p:cNvSpPr/>
          <p:nvPr/>
        </p:nvSpPr>
        <p:spPr>
          <a:xfrm>
            <a:off x="395280" y="1225440"/>
            <a:ext cx="4572000" cy="43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ona coquilhada, onde a estrutura consiste de finos cristais  equiaxiai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ona colunar, cujas dendritas se estendem para dentro a partir da zona coquilhada, em uma direção aproximadamente perpendicular á superfície do tarug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ona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 equiaxial, que consiste de dendritas orientadas aleatoriamente no centro  da seção lingotad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s agitadores eletromagnéticos (EMS) no molde promovem uma maior homogeneidade térmica, o que leva a uma redução nos gradientes de temperatura e concentração de solutos na região anterior da frente de solidificação, inibindo o crescimento de dendritas, favorecendo a zona equiaxial e diminuindo a formação de trinc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Velocidade do lingotamento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mento de transferência de calor, tanto no meio da face quanto nos cantos do mold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nto maior a velocidade de vazão no molde, menor o tempo de residência nele, levando a uma menor espessura da casca, levando a um tarugo mais quent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mentando ou diminuindo a velocidade localmente no molde, pode ocorrer diferenças na solidificação, ocorrendo defeitos como trinca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Lubrificante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É usado um óleo vegetal (óleo de soja) como uma fina camada no molde. O óleo se decompõe (pirólise) para formar uma camada de gás para que evite a aderência da casca do tarugo à parede do mold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ita também o aparecimento de trincas na hora da retirada do tarugo do mold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c0c0"/>
                </a:solidFill>
                <a:latin typeface="Arial"/>
              </a:rPr>
              <a:t>Lingotamento Contínuo x Convencional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→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ilidade de controle do processo pelo fat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→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etibilidad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→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ndiment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→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exibilidade operacion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→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st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→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conomia de energi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→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conomia de mão de obr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→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lhorias na qualidade e consitência do produt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→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nores emissões nocivas para o ambiente e operadore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→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ímulo ao crescimento de novos tipos de usinas como mini aciaria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→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ução dos níveis de estoq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Tipos de Processos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icamente três diferentes tipos de processo emergiram do desenvolvimento do lingotamento contínuo a partir das mais de 5000 paten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→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Processos com molde fixo (sem lubrificação)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– onde o molde ou é preso ao sistema de alimentação ou com uma superfície de metal livre, combinados com uma extração de veio intermitente para reduzir o atrit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→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Processo com molde oscilante (com lubrificação) –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onde a oscilação do molde para cima e para baixo com uma velocidade variável, permite uma extração contínua do veio com baixíssimo atrito com as paredes laterais do molde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→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Molde progressivo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– onde a cavidade do molde é formada por uma roda, rolo, correia ou combinações com uma superfície de metal livre. Normalmente nenhuma lubrificação é necessária, além de um filme “não aderente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Lingotamento Contínuo x Convencional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57200" y="2062080"/>
          <a:ext cx="8229600" cy="3382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Rendimento Méd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Lingotamento Contínu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Lingotamento Convenc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iferenç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Plac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150 – 300x800 -3000 m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9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84,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10,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Blo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&gt; 240x240 m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96,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83,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13,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Tarug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&lt;=240m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(90x90 mm – 160x160 m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98,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81,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16,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Evolução da Participação do Lingotamento Contínuo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25" name="Picture 3" descr="Imagem1.png"/>
          <p:cNvPicPr/>
          <p:nvPr/>
        </p:nvPicPr>
        <p:blipFill>
          <a:blip r:embed="rId1"/>
          <a:stretch/>
        </p:blipFill>
        <p:spPr>
          <a:xfrm>
            <a:off x="684360" y="1639800"/>
            <a:ext cx="7796160" cy="4813560"/>
          </a:xfrm>
          <a:prstGeom prst="rect">
            <a:avLst/>
          </a:prstGeom>
          <a:ln w="0">
            <a:noFill/>
          </a:ln>
        </p:spPr>
      </p:pic>
      <p:sp>
        <p:nvSpPr>
          <p:cNvPr id="226" name="TextBox 4"/>
          <p:cNvSpPr/>
          <p:nvPr/>
        </p:nvSpPr>
        <p:spPr>
          <a:xfrm>
            <a:off x="684360" y="6453360"/>
            <a:ext cx="77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nte: International Iron and Steel Institute, 200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Perfil do uso de protecao entre panela e distribuidor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539640" y="2997360"/>
          <a:ext cx="8229600" cy="1482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tecao Panela/Distribuid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Valvula Long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Jato Aber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Valvula Longa + Jato Aber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Perfil do uso de modificadores de fluxo nos distribuidores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468360" y="3141720"/>
          <a:ext cx="8229600" cy="1477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dificadores de Fluxo-Distribuid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Barrei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Inibidor de Turbule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na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Perfil do uso de isolantes termicos nos distribuidores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68360" y="2997360"/>
          <a:ext cx="8229600" cy="1854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solante Termico no Distribuid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Casca de arroz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Casca de Arroz + Po (dupla camad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Somente P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Protecao de Argon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Perfil do uso de controladores de fluxo nos distribuidores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68360" y="2852640"/>
          <a:ext cx="8229600" cy="2225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trole de fluxo do Distribuid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Valvula Calibra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Tampa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Valvula Gave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Tampao ou Valvula Calibra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Valvula Gaveta ou Valvula Calibra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onicidades nas maquinas de lingotamento continuo no Brasil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68360" y="2708280"/>
          <a:ext cx="8229600" cy="2225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icidade do Mol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Line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Dup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Trip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Mul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Parabol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c0c0"/>
                </a:solidFill>
                <a:latin typeface="Arial"/>
              </a:rPr>
              <a:t>Uso de rolos de pé nas maquina de lingotamento continuo</a:t>
            </a:r>
            <a:endParaRPr b="0" lang="en-US" sz="3600" spc="-1" strike="noStrike">
              <a:solidFill>
                <a:srgbClr val="c0c0c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68360" y="3500280"/>
          <a:ext cx="8229600" cy="1112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porte abaixo do mol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Com rolo de p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Sem rolo de pé (ate 160 m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c0c0"/>
                </a:solidFill>
                <a:latin typeface="Arial"/>
              </a:rPr>
              <a:t>Controle de nivel de molde nas maquinas de lingotamento continuo</a:t>
            </a:r>
            <a:endParaRPr b="0" lang="en-US" sz="3600" spc="-1" strike="noStrike">
              <a:solidFill>
                <a:srgbClr val="c0c0c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68360" y="3213000"/>
          <a:ext cx="8229600" cy="1482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trole de Nivel de Mol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Eletromagnetism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Radiometrico com Co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Radiometrico com Ce1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Uso de agitadores eletromagneticos nas maquinas de lingotamento continuo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95280" y="2997360"/>
          <a:ext cx="8229600" cy="2396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gitador Eletromagnet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S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Molde (MEM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Molde e veio (MEMS + SEM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Molde e ao final da solidif (MEMS + SEM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63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c0c0"/>
                </a:solidFill>
                <a:latin typeface="Arial"/>
              </a:rPr>
              <a:t>Engenharia da Máquina de Lingotamento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c0c0"/>
                </a:solidFill>
                <a:latin typeface="Arial"/>
              </a:rPr>
              <a:t>Tipos de barra falsa nas maquinas de lingotamento continuo</a:t>
            </a:r>
            <a:endParaRPr b="0" lang="en-US" sz="3600" spc="-1" strike="noStrike">
              <a:solidFill>
                <a:srgbClr val="c0c0c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68360" y="3141720"/>
          <a:ext cx="8229600" cy="1485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Barra Fal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Rígi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Semi-rígi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Articula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c0c0"/>
                </a:solidFill>
                <a:latin typeface="Arial"/>
              </a:rPr>
              <a:t>Sistemas de corte nas maquinas de lingotamento continuo</a:t>
            </a:r>
            <a:endParaRPr b="0" lang="en-US" sz="3600" spc="-1" strike="noStrike">
              <a:solidFill>
                <a:srgbClr val="c0c0c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68360" y="3284640"/>
          <a:ext cx="8229600" cy="1482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stemas de Cor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Oxicort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Tesoura mecan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Tesoura hidraul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c0c0"/>
                </a:solidFill>
                <a:latin typeface="Arial"/>
              </a:rPr>
              <a:t>Leitos de resfriamneto nas maquinas de lingotamento continuo</a:t>
            </a:r>
            <a:endParaRPr b="0" lang="en-US" sz="3600" spc="-1" strike="noStrike">
              <a:solidFill>
                <a:srgbClr val="c0c0c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395280" y="3141720"/>
          <a:ext cx="8229600" cy="1114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itos de Resfriam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Marcha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Fix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Referências Bibliográficas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33cc33"/>
                </a:solidFill>
                <a:uFillTx/>
                <a:latin typeface="Arial"/>
                <a:hlinkClick r:id="rId1"/>
              </a:rPr>
              <a:t>http://www.bibliotecadigital.ufmg.br/dspace/bitstream/1843/BUOS-8DNH3M/1/lucas_vieira_penna.pdf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33cc33"/>
                </a:solidFill>
                <a:uFillTx/>
                <a:latin typeface="Arial"/>
                <a:hlinkClick r:id="rId2"/>
              </a:rPr>
              <a:t>http://pt.wikipedia.org/wiki/Lingotamento_cont%C3%</a:t>
            </a:r>
            <a:r>
              <a:rPr b="0" lang="pt-BR" sz="2000" spc="-1" strike="noStrike" u="sng">
                <a:solidFill>
                  <a:srgbClr val="33cc33"/>
                </a:solidFill>
                <a:uFillTx/>
                <a:latin typeface="Arial"/>
                <a:hlinkClick r:id="rId3"/>
              </a:rPr>
              <a:t>ADnuo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33cc33"/>
                </a:solidFill>
                <a:uFillTx/>
                <a:latin typeface="Arial"/>
                <a:hlinkClick r:id="rId4"/>
              </a:rPr>
              <a:t>http://www.demet.ufmg.br/docentes/parreiras/PDF/finaldecurso(Leo).</a:t>
            </a:r>
            <a:r>
              <a:rPr b="0" lang="pt-BR" sz="2000" spc="-1" strike="noStrike" u="sng">
                <a:solidFill>
                  <a:srgbClr val="33cc33"/>
                </a:solidFill>
                <a:uFillTx/>
                <a:latin typeface="Arial"/>
                <a:hlinkClick r:id="rId5"/>
              </a:rPr>
              <a:t>pdf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33cc33"/>
                </a:solidFill>
                <a:uFillTx/>
                <a:latin typeface="Arial"/>
                <a:hlinkClick r:id="rId6"/>
              </a:rPr>
              <a:t>http://www.industry.siemens.com.br/industrysolutions/metals-mining-br/pt/metais/lingotamento-continuo/Pages/lingotamento-continuo.</a:t>
            </a:r>
            <a:r>
              <a:rPr b="0" lang="pt-BR" sz="2000" spc="-1" strike="noStrike" u="sng">
                <a:solidFill>
                  <a:srgbClr val="33cc33"/>
                </a:solidFill>
                <a:uFillTx/>
                <a:latin typeface="Arial"/>
                <a:hlinkClick r:id="rId7"/>
              </a:rPr>
              <a:t>aspx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Fluxograma Básico de Aciaria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19" name="Diagrama 31" descr=""/>
          <p:cNvPicPr/>
          <p:nvPr/>
        </p:nvPicPr>
        <p:blipFill>
          <a:blip r:embed="rId1"/>
          <a:stretch/>
        </p:blipFill>
        <p:spPr>
          <a:xfrm>
            <a:off x="749160" y="1468440"/>
            <a:ext cx="793116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Máquina de Lingotamento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1" name="CaixaDeTexto 4"/>
          <p:cNvSpPr/>
          <p:nvPr/>
        </p:nvSpPr>
        <p:spPr>
          <a:xfrm>
            <a:off x="539640" y="2421000"/>
            <a:ext cx="24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pos de Máquin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tica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rizo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rcRect l="35672" t="19002" r="36454" b="33960"/>
          <a:stretch/>
        </p:blipFill>
        <p:spPr>
          <a:xfrm>
            <a:off x="3419640" y="1798560"/>
            <a:ext cx="475272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CaixaDeTexto 3"/>
          <p:cNvSpPr/>
          <p:nvPr/>
        </p:nvSpPr>
        <p:spPr>
          <a:xfrm>
            <a:off x="1049040" y="1125360"/>
            <a:ext cx="2959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álvula Gave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ar o fluxo de aç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rcRect l="34021" t="20161" r="41882" b="54642"/>
          <a:stretch/>
        </p:blipFill>
        <p:spPr>
          <a:xfrm>
            <a:off x="5003640" y="981000"/>
            <a:ext cx="3691080" cy="2519280"/>
          </a:xfrm>
          <a:prstGeom prst="rect">
            <a:avLst/>
          </a:prstGeom>
          <a:ln w="0">
            <a:noFill/>
          </a:ln>
        </p:spPr>
      </p:pic>
      <p:sp>
        <p:nvSpPr>
          <p:cNvPr id="125" name="CaixaDeTexto 5"/>
          <p:cNvSpPr/>
          <p:nvPr/>
        </p:nvSpPr>
        <p:spPr>
          <a:xfrm>
            <a:off x="429480" y="4564080"/>
            <a:ext cx="4176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bo Long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itar perdas térmicas e reoxidaçã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 aç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12" descr=""/>
          <p:cNvPicPr/>
          <p:nvPr/>
        </p:nvPicPr>
        <p:blipFill>
          <a:blip r:embed="rId2"/>
          <a:srcRect l="34493" t="19842" r="57478" b="63365"/>
          <a:stretch/>
        </p:blipFill>
        <p:spPr>
          <a:xfrm>
            <a:off x="5435640" y="4437000"/>
            <a:ext cx="187308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1T17:35:46Z</dcterms:created>
  <dc:creator>User</dc:creator>
  <dc:description/>
  <dc:language>en-US</dc:language>
  <cp:lastModifiedBy>User</cp:lastModifiedBy>
  <dcterms:modified xsi:type="dcterms:W3CDTF">2012-06-01T04:36:38Z</dcterms:modified>
  <cp:revision>45</cp:revision>
  <dc:subject/>
  <dc:title>Lingotamento Contínuo</dc:title>
</cp:coreProperties>
</file>